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040" y="912960"/>
            <a:ext cx="3649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Atlantic World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492–18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56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explore and colonize the Americas, disrupting native civilizations, and build the slave trade to support plantations in the New Worl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0160" y="3940200"/>
            <a:ext cx="59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European nations fight for control of North America, and England emerges victori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0160" y="2397240"/>
            <a:ext cx="6800400" cy="1581480"/>
            <a:chOff x="1370160" y="2397240"/>
            <a:chExt cx="6800400" cy="1581480"/>
          </a:xfrm>
        </p:grpSpPr>
        <p:sp>
          <p:nvSpPr>
            <p:cNvPr id="130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0160" y="2787480"/>
              <a:ext cx="68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uropean Nations Settle North America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3000" y="182736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mpeting Claims in North Ame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9800" y="941400"/>
            <a:ext cx="46886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European Nations Settle 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North Americ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73360" y="2403360"/>
            <a:ext cx="5864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European Claims in North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, English, Dutch start colonies in Nor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73360" y="3333600"/>
            <a:ext cx="581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orers Establish New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uel de Champlain founds Queb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ew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rench colony in North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France includes Great Lakes and Mississipp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ver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73360" y="4870440"/>
            <a:ext cx="5736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ding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France is very large but has few inhabi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in activity of the colony is the fur t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2280" y="159876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English Arrive in North Ame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English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 James permits investors to start Nor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n col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07, colonists fou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amest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ngl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tlement in Virgi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73360" y="366084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ttlement at James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years very difficult; many die, but 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s 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3360" y="45831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ritans Create a “New Englan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ilgr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roup persecuted for religion—f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ymouth in 1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urit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roup seeking religious freedom—sett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Massachuset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families in Massachusetts colo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begins to g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2000" y="1690560"/>
            <a:ext cx="44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English Arrive in North Ame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73360" y="2174760"/>
            <a:ext cx="5800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utch Found New Neth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09, Henry Hudson explores waterway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tch claim land, fou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ew Neth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any and New York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tch focus on fur trade; welcome settlers from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422280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nizing the Caribb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nations also start colonies in Carib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 cotton, sugar plantations worked by enslav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3000" y="159876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Struggle for North Ame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nglish Oust the Du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Netherland splits northern, southern Engl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64, English force Dutch colonis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rend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750, about 1.2 million English settlers in 1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73360" y="422928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land Battles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ish settlers, pushing west, collide with Fren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rench and Indian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art of Seven Years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—begins (17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763, France loses to Britain, gives up 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colon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76240" y="159876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tive Americans Resp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raine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 and Dutch fur traders get along well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ve 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ish settlers and Native Americans disag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 land, 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37101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tlers and Native Americans B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ility often breaks out into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ve American rule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eta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aunches attac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colonists in 16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3360" y="49388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ves Fall to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s are less deadly to Native Americans t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dis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sts use enslaved Africans to work in plac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ve Ameri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369080" y="2486160"/>
            <a:ext cx="6980760" cy="1057680"/>
            <a:chOff x="1369080" y="2486160"/>
            <a:chExt cx="6980760" cy="1057680"/>
          </a:xfrm>
        </p:grpSpPr>
        <p:sp>
          <p:nvSpPr>
            <p:cNvPr id="18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9080" y="2867040"/>
              <a:ext cx="698076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Atlantic Slave Trad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370160" y="34815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meet their growing labor needs, Europeans enslave millions of Africans in the Amer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182736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auses of African Sla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avery i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avery has existed in Africa for centuries, but b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read of Islam produces more slavery in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frican, Muslim lands, slaves have some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73360" y="394344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mand for Af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for workers in Americas raises demand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laved Af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ns withstand diseases, have farming skil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ly to e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tlantic slave t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forced movement of 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s to Ameri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70160" y="885960"/>
            <a:ext cx="470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Atlantic Slave Trad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in and Portugal Lead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650, about 300,000 enslaved African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ugal brings many more slaves to sug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tations in 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79840" y="1690560"/>
            <a:ext cx="39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auses of African Slav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4800" y="15987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lavery Spreads Throughout the Ame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land Dominates the Slave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1690 to 1807, England dominates sl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out 400,000 enslaved Africans brou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 American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73360" y="36813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rican Cooperation and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African rulers capture people to be sold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a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r, some rulers protest the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912960"/>
            <a:ext cx="3649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Atlantic World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492–18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960" y="250200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ain Builds an American Emp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4080" y="307800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Nations Settle North Ame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7680" y="359100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tlantic Slave Tr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720" y="4129200"/>
            <a:ext cx="52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umbian Exchange and Global Tr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5160" y="159876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Forced Jour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riangula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iangular t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rade network linking Europ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, Am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trade ro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d goods move from Europ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move from Africa to Am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ar, coffee, tobacco move from America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73360" y="4795920"/>
            <a:ext cx="57369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ddle Pa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yage of enslaved Africans to Americas known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iddle pa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many as 20 percent of Africans die on th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ourn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74440" y="1598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lavery in the Ame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73360" y="2174760"/>
            <a:ext cx="5445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Harsh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mericas, captured Africans sold at auctio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est bi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 is difficult: long work hours; poor foo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ing, 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73360" y="37101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istance and Rebe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ns maintain musical, cultural tra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resist by breaking tools or working slow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run away or take part in revo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5160" y="1598760"/>
            <a:ext cx="51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nsequences of the Slave T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3360" y="2174760"/>
            <a:ext cx="5445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s in Africa and the Ame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n societies suffer from loss of so 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rican families disru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mericas, labor of enslaved people helps bui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ocie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laved Africans affect culture in Am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in Americas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370520" y="2486160"/>
            <a:ext cx="7168320" cy="1640520"/>
            <a:chOff x="1370520" y="2486160"/>
            <a:chExt cx="7168320" cy="1640520"/>
          </a:xfrm>
        </p:grpSpPr>
        <p:sp>
          <p:nvSpPr>
            <p:cNvPr id="25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0520" y="2867040"/>
              <a:ext cx="71683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Columbian Exchang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nd Global Trad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70160" y="41673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onization of the Americas introduces new items into Eastern and Western hemisphe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69440" y="941400"/>
            <a:ext cx="56228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Columbian Exchange and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Global Trad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3360" y="2403360"/>
            <a:ext cx="5788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lumbian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lumbian Ex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lobal transfer of foo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ts, ani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n, potatoes from Americas become crop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tern Hemisp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animals, plants introduced by Europeans ta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d in Am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diseases kill millions of Native Ameri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3720" y="182736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lumbian Ex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73000" y="1598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lobal T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ing Econom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lth from Americas, growth of trade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774800" y="314640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Capit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economic system—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pit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bas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property,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 in business leads to inflation—ri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ces—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uls of gold, silver from Americas cause 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ation in Sp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73360" y="52243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t-Stock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oint-stock comp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ts investors share ris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its of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companies help fund colonies in Ame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74800" y="2174760"/>
            <a:ext cx="546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Economic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cy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ercanti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mphasizes 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lth as source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70120" y="15937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Growth of Mercanti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774800" y="3156120"/>
            <a:ext cx="5654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of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way for nation to increase wealth: gather gol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avorable balance of t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hen nation sel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goods than it bu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es provide raw materials that home count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to make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74800" y="2174760"/>
            <a:ext cx="54658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Revolution Changes Europe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 changes spur growth of towns, ri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chan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ll, most people are poor and live in rural are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784160" y="1690560"/>
            <a:ext cx="36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Growth of Mercantil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160" y="2486160"/>
            <a:ext cx="7232400" cy="1640520"/>
            <a:chOff x="1370160" y="2486160"/>
            <a:chExt cx="7232400" cy="164052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160" y="2867040"/>
              <a:ext cx="72324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Spain Builds an American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mpir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3400" y="416088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oyages of Columbus prompt the Spanis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colonies in the Amer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3720" y="182736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Voyages of Colu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0880" y="941400"/>
            <a:ext cx="6380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Spain Builds an American Empi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667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Encou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oese sea cap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ristopher Colum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ches Americas (14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nks he is in East Indies, calls natives “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os”—In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ually lands on an island, probably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h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ble to find gold, he claims many island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493, he sets out for the Americas again with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fl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in aims to set up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lon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lands controll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foreign 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9840" y="169056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Voyages of Columb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3360" y="2174760"/>
            <a:ext cx="58006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Explorers Take to the S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dro Álvares Cabral claims Brazil for Portug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go Vespucci identifies South America as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ent (15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507, German mapmaker names the contin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sco Núñez de Balboa reaches the Pacific Oc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rdinand Magellan leaves to sail around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gellan is killed, but some of his men retur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in in 15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3360" y="159876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panish Conquests in Mex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quista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519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ernando Cort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panish adventurer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s in Mex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and others become known a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quistad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conqu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73360" y="379404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tés Conquers the Azt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tés and 600 men reach Aztec capita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ochtitl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521, they conquer Aztec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quest aided by superior weapons, N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n al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diseases wipe out large number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zt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159876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panish Conquests in Pe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73360" y="2174760"/>
            <a:ext cx="607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other Conquis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conque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rancisco Pizar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ads forc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u in 15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3360" y="3108240"/>
            <a:ext cx="665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zarro Subdues the I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zarro kill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tahualp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nca ruler—and defeats the I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3360" y="3813120"/>
            <a:ext cx="6265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in’s Pattern of Con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nish men and Native American women hav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is larg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estiz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ixed Spanish and native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ncomiend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—Spanish force Native Ameri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work for th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3360" y="5584680"/>
            <a:ext cx="665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ortuguese in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530s, Portuguese settle in Brazil, begin growing sug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3360" y="159876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pain’s Influence Exp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773360" y="2174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wth of Spanish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quests in Americas bring great wealth to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in enlarges its navy to protect ships carr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339408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quistadors Push N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an Ponce de León claims Florida for Spain (15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540s, Francisco Coronado explores Southwe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ds little g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 priests set up missions in South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early 1600s, Spanish establish capital of Santa 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0480" y="159876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Opposition to Spanish R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3360" y="217476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sts Against Mis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holic priests protest mistreatment of N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3360" y="311796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rican Slavery and Native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in abolish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ien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 (15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for workers in mines and on farms met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laved Afri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Native Americans resist Spanish conqu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680, Popé leads rebellion against Spanish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n New Me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nish driven out, but return 12 years later to st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04:05Z</dcterms:modified>
  <cp:revision>844</cp:revision>
  <dc:subject/>
  <dc:title>No Slide Title</dc:title>
</cp:coreProperties>
</file>